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0.wmf" ContentType="image/x-wmf"/>
  <Override PartName="/ppt/media/image57.wmf" ContentType="image/x-wmf"/>
  <Override PartName="/ppt/media/image19.png" ContentType="image/pn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15.wmf" ContentType="image/x-wmf"/>
  <Override PartName="/ppt/media/image24.wmf" ContentType="image/x-wmf"/>
  <Override PartName="/ppt/media/image59.jpeg" ContentType="image/jpeg"/>
  <Override PartName="/ppt/media/image1.wmf" ContentType="image/x-wmf"/>
  <Override PartName="/ppt/media/image31.wmf" ContentType="image/x-wmf"/>
  <Override PartName="/ppt/media/image38.jpeg" ContentType="image/jpeg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46.jpeg" ContentType="image/jpeg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7.wmf" ContentType="image/x-wmf"/>
  <Override PartName="/ppt/media/image42.wmf" ContentType="image/x-wmf"/>
  <Override PartName="/ppt/media/image43.png" ContentType="image/png"/>
  <Override PartName="/ppt/media/image44.jpeg" ContentType="image/jpeg"/>
  <Override PartName="/ppt/media/image45.jpeg" ContentType="image/jpeg"/>
  <Override PartName="/ppt/media/image51.wmf" ContentType="image/x-wmf"/>
  <Override PartName="/ppt/media/image48.jpeg" ContentType="image/jpeg"/>
  <Override PartName="/ppt/media/image52.wmf" ContentType="image/x-wmf"/>
  <Override PartName="/ppt/media/image54.jpeg" ContentType="image/jpeg"/>
  <Override PartName="/ppt/media/image49.jpeg" ContentType="image/jpeg"/>
  <Override PartName="/ppt/media/image55.jpeg" ContentType="image/jpeg"/>
  <Override PartName="/ppt/media/image53.png" ContentType="image/png"/>
  <Override PartName="/ppt/media/image58.jpeg" ContentType="image/jpeg"/>
  <Override PartName="/ppt/media/image56.png" ContentType="image/png"/>
  <Override PartName="/ppt/media/image39.jpeg" ContentType="image/jpeg"/>
  <Override PartName="/ppt/media/image41.wmf" ContentType="image/x-wmf"/>
  <Override PartName="/ppt/media/image37.png" ContentType="image/png"/>
  <Override PartName="/ppt/media/image40.wmf" ContentType="image/x-wmf"/>
  <Override PartName="/ppt/media/image36.png" ContentType="image/png"/>
  <Override PartName="/ppt/media/image47.png" ContentType="image/png"/>
  <Override PartName="/ppt/media/image35.jpeg" ContentType="image/jpeg"/>
  <Override PartName="/ppt/media/image30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0.jpeg" ContentType="image/jpeg"/>
  <Override PartName="/ppt/media/image8.wmf" ContentType="image/x-wmf"/>
  <Override PartName="/ppt/media/image12.wmf" ContentType="image/x-wmf"/>
  <Override PartName="/ppt/media/image11.jpeg" ContentType="image/jpeg"/>
  <Override PartName="/ppt/media/image2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DA97-8F2F-4827-8887-8918D7C0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056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1800"/>
            <a:ext cx="70056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B8AE-452D-4BD6-83D5-DAC543C6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3800" y="190512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180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3800" y="405180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8002-3697-49AC-8687-66FDE5A1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54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2320" y="1905120"/>
            <a:ext cx="22554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1120" y="1905120"/>
            <a:ext cx="22554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1800"/>
            <a:ext cx="22554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2320" y="4051800"/>
            <a:ext cx="22554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1120" y="4051800"/>
            <a:ext cx="22554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4BB3-DC9B-424D-9C66-B22E2C77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AAFE-7E70-4EAF-A23B-7322C878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0560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8571-EE1F-4AC8-B22B-8710B66E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0560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63CC-A5B2-40C0-BAAB-232CBEA5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185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3800" y="1905120"/>
            <a:ext cx="34185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F77C-96F7-4E66-9D7C-BBBB45BF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6F03-D755-48F9-AC8F-C1B1CF00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080"/>
            <a:ext cx="70056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35BE-4C70-4B1F-B292-E42E93C7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3800" y="1905120"/>
            <a:ext cx="34185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180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6706-F8A1-48C1-85F2-578FBE1A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0560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1CB2-4A76-4C21-ADFD-77C772D5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185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3800" y="190512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3800" y="405180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49CB-ADCB-49DB-9BE4-25C63A89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3800" y="190512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1800"/>
            <a:ext cx="70056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72C1-8BF9-4665-A968-B7CBBC49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056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1800"/>
            <a:ext cx="70056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CABD-484E-4775-A075-5B97342A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3800" y="190512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180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3800" y="405180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1A78-8062-48FD-9BD6-13BA4D54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54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2320" y="1905120"/>
            <a:ext cx="22554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1120" y="1905120"/>
            <a:ext cx="22554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1800"/>
            <a:ext cx="22554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2320" y="4051800"/>
            <a:ext cx="22554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1120" y="4051800"/>
            <a:ext cx="22554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57FC-3614-4A4F-81D8-DF5E8F306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0560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41C2-58C7-4445-B8EC-4192DA14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185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3800" y="1905120"/>
            <a:ext cx="34185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20A2-F1E9-4394-8D80-0AADDC9D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897A-5354-4818-80E0-D567BE7A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080"/>
            <a:ext cx="70056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8724-A995-4ADF-AC7D-C5EC942A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3800" y="1905120"/>
            <a:ext cx="34185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180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C79C-5CAE-452E-AC26-0C76BEA6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185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3800" y="190512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3800" y="405180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49AF-2330-4A2E-AAE6-FB5D5000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3800" y="1905120"/>
            <a:ext cx="3418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1800"/>
            <a:ext cx="70056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22FB-EAF7-410D-8C37-D1E28997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0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0560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72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06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F2620-714B-46A8-AE1D-8859AFE53C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299520"/>
            <a:ext cx="1440" cy="1305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720" y="1371240"/>
            <a:ext cx="647208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600" y="6248520"/>
            <a:ext cx="15192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680" y="6248520"/>
            <a:ext cx="12146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E98485F3-2903-4CA0-A957-3C6654D2EA46}" type="slidenum">
              <a:rPr b="0" lang="en-US" sz="1400" spc="-1" strike="noStrike">
                <a:solidFill>
                  <a:srgbClr val="336666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144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Bill of Righ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76520" y="5562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The First 10 Amend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76720" y="2971800"/>
            <a:ext cx="314316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Freedom To Peti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be verbal or wri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vernment must listen but does not have to agree or make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vernment officials have to have public addresses, phone numbers and usually email for citizens to use to contact th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51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334280" y="838080"/>
            <a:ext cx="1809720" cy="1803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04920" y="4724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215040" y="4492800"/>
            <a:ext cx="2928960" cy="23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Freedom of Spee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s more than speech – includes gestures, clothing and hair style, art, music, bumper stic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51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257800" y="4994280"/>
            <a:ext cx="1981080" cy="1863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038480" y="3352680"/>
            <a:ext cx="1676520" cy="1981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010280" y="3352680"/>
            <a:ext cx="1694160" cy="1752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57200" y="3429000"/>
            <a:ext cx="1812960" cy="1914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1676520" y="4952880"/>
            <a:ext cx="2133360" cy="1905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7315200" y="609480"/>
            <a:ext cx="1828800" cy="14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Arial"/>
              </a:rPr>
              <a:t>Limit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Hate Speech – cannot target a group based race, color, religion, ancestry, national origin, gender, physical or mental disability or sexual ori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666880" y="4343400"/>
            <a:ext cx="4364280" cy="18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Clear and Present Dang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lling “fire” in a crowded the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not incite a ri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not threaten to harm a person or a person’s prop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3809880"/>
            <a:ext cx="1879560" cy="1273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553080" y="4419720"/>
            <a:ext cx="1854360" cy="1819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724280" y="4191120"/>
            <a:ext cx="1417680" cy="2120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905120" y="4114800"/>
            <a:ext cx="25192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99"/>
                </a:solidFill>
                <a:latin typeface="Arial"/>
              </a:rPr>
              <a:t>Obsceni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ercial speech – public radio and tele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dity – nudity in and of itself cannot be declared obscene simply to protect minors.  Avert the eyes test: can the person who is offended look the other wa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51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" y="419112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85400"/>
            <a:ext cx="70106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762120"/>
            <a:ext cx="7058160" cy="54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99"/>
                </a:solidFill>
                <a:latin typeface="Arial"/>
              </a:rPr>
              <a:t>Sland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ech that is lies and intends to h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Arial"/>
              </a:rPr>
              <a:t>Sland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ken lies with intent to h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8320" y="2666880"/>
            <a:ext cx="4114800" cy="3743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80880" y="2590920"/>
            <a:ext cx="411480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00"/>
                </a:solidFill>
                <a:latin typeface="Arial"/>
              </a:rPr>
              <a:t>Second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 to bear arms &amp; a well-regulated milit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vernment can place limits on types of weapons a citizen can own and can require a waiting peri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51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1789200" cy="2724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943600" y="4724280"/>
            <a:ext cx="2751120" cy="15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Arial"/>
              </a:rPr>
              <a:t>Third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vernment cannot force you to quarter soldiers during peace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3352680" cy="28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06666"/>
                </a:solidFill>
                <a:latin typeface="Arial"/>
              </a:rPr>
              <a:t>Amendment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s 5 freed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lig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sembl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ti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eec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486400" y="2590920"/>
            <a:ext cx="2644920" cy="304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Fourth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search or seizure without a warr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ceptions: fear of immediate danger, if they see, hear, smell something ille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ool lockers &amp; parking lot – public property and 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mendment protections do not app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4120" cy="21906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264440" y="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7358040" y="4952880"/>
            <a:ext cx="178596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660066"/>
                </a:solidFill>
                <a:latin typeface="Arial"/>
              </a:rPr>
              <a:t>Fifth Amendment</a:t>
            </a:r>
            <a:r>
              <a:rPr b="0" lang="en-US" sz="4200" spc="-1" strike="noStrike">
                <a:solidFill>
                  <a:srgbClr val="660066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50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ue process – follow proper procedu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double jeopardy – cannot be tried for the same crime tw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self-incrimination – cannot be forced to testify against yourself or your spou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minent domain – right of the government to take private property for public u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6040" cy="20113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886040" cy="1523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054760" y="1752480"/>
            <a:ext cx="4089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85400"/>
            <a:ext cx="8077320" cy="61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49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49000" y="185760"/>
            <a:ext cx="798516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01028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Arial"/>
              </a:rPr>
              <a:t>Sixth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edy, public trial by ju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 to call witnesses for you and to question witnesses against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 to a law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019920" y="4038480"/>
            <a:ext cx="2889000" cy="24861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80880" y="4114800"/>
            <a:ext cx="3078360" cy="24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00"/>
                </a:solidFill>
                <a:latin typeface="Arial"/>
              </a:rPr>
              <a:t>Seventh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 to a jury trial in civil cases over $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2286000" cy="28195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791320" y="2895480"/>
            <a:ext cx="2514600" cy="34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Eighth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excessive bail or f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ruel or unusual punish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19320" y="4191120"/>
            <a:ext cx="3162240" cy="1676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592600" y="3363840"/>
            <a:ext cx="19512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42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ople have more rights than those listed in the Constit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 Right to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41400" cy="1631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724280" y="3809880"/>
            <a:ext cx="2762280" cy="26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42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s reserved to the st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long as the Constitution doesn’t forbid states a right, they retain that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886200"/>
            <a:ext cx="6172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99"/>
                </a:solidFill>
                <a:latin typeface="Arial"/>
              </a:rPr>
              <a:t>Relig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9240" y="127944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Parts – Government cannot establish an official religion &amp; Government cannot interfere with an individual’s practice of his/her relig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TRICTED ACTIVITES IN PUBLIC SCHOO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eaching religion (as doctrine) in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Prayers at graduation or before sports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0">
              <a:spcBef>
                <a:spcPts val="700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040520" y="3559320"/>
            <a:ext cx="1957320" cy="1652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705720" y="380880"/>
            <a:ext cx="1803240" cy="1524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4648320"/>
            <a:ext cx="1550880" cy="18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imits on Freedom of Relig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not do drugs, practice human sacrifice or otherwise break the law and defend it as part of your relig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51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47920" y="3429000"/>
            <a:ext cx="1752480" cy="2368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4120" y="3657600"/>
            <a:ext cx="26668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336666"/>
                </a:solidFill>
                <a:latin typeface="Arial"/>
              </a:rPr>
              <a:t>Freedom of Assembl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25146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s citizens’ rights to gather in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Limit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Must be peac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Cannot block a public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Government can require a permit but the rules for that have to be the same for al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00400" y="1066680"/>
            <a:ext cx="3057480" cy="1586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8600" y="4800600"/>
            <a:ext cx="1820880" cy="1630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477120" y="3124080"/>
            <a:ext cx="19018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Freedom of the Pr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010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 to publish and Right to access or read mater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Lim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Libel – printed lies with intent to h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ablo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ild in budget the cost of law s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ories from outside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nd people who don’t care what is said as long as they get in the 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086600" y="3352680"/>
            <a:ext cx="1778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37800"/>
            <a:ext cx="701064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Protected Today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(But Not Invented When Bill of Rights Was Writ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le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51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381400" cy="1897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1650960" cy="1801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477120" y="4038480"/>
            <a:ext cx="1904760" cy="1917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886200" y="4572000"/>
            <a:ext cx="1803240" cy="16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Arial"/>
              </a:rPr>
              <a:t>Censorship &amp; Pornograph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0680" indent="-490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490680"/>
                <a:tab algn="l" pos="603360"/>
                <a:tab algn="l" pos="1060560"/>
                <a:tab algn="l" pos="1517760"/>
                <a:tab algn="l" pos="1974960"/>
                <a:tab algn="l" pos="2432160"/>
                <a:tab algn="l" pos="2889360"/>
                <a:tab algn="l" pos="3346560"/>
                <a:tab algn="l" pos="3803760"/>
                <a:tab algn="l" pos="4260960"/>
                <a:tab algn="l" pos="4718160"/>
                <a:tab algn="l" pos="5175360"/>
                <a:tab algn="l" pos="5632560"/>
                <a:tab algn="l" pos="6089760"/>
                <a:tab algn="l" pos="6546960"/>
                <a:tab algn="l" pos="7004160"/>
                <a:tab algn="l" pos="7461360"/>
                <a:tab algn="l" pos="7918560"/>
                <a:tab algn="l" pos="8375760"/>
                <a:tab algn="l" pos="8832960"/>
                <a:tab algn="l" pos="9290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t/Literature or Smut?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490680"/>
                <a:tab algn="l" pos="603360"/>
                <a:tab algn="l" pos="1060560"/>
                <a:tab algn="l" pos="1517760"/>
                <a:tab algn="l" pos="1974960"/>
                <a:tab algn="l" pos="2432160"/>
                <a:tab algn="l" pos="2889360"/>
                <a:tab algn="l" pos="3346560"/>
                <a:tab algn="l" pos="3803760"/>
                <a:tab algn="l" pos="4260960"/>
                <a:tab algn="l" pos="4718160"/>
                <a:tab algn="l" pos="5175360"/>
                <a:tab algn="l" pos="5632560"/>
                <a:tab algn="l" pos="6089760"/>
                <a:tab algn="l" pos="6546960"/>
                <a:tab algn="l" pos="7004160"/>
                <a:tab algn="l" pos="7461360"/>
                <a:tab algn="l" pos="7918560"/>
                <a:tab algn="l" pos="8375760"/>
                <a:tab algn="l" pos="8832960"/>
                <a:tab algn="l" pos="9290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Old T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490680"/>
                <a:tab algn="l" pos="603360"/>
                <a:tab algn="l" pos="1060560"/>
                <a:tab algn="l" pos="1517760"/>
                <a:tab algn="l" pos="1974960"/>
                <a:tab algn="l" pos="2432160"/>
                <a:tab algn="l" pos="2889360"/>
                <a:tab algn="l" pos="3346560"/>
                <a:tab algn="l" pos="3803760"/>
                <a:tab algn="l" pos="4260960"/>
                <a:tab algn="l" pos="4718160"/>
                <a:tab algn="l" pos="5175360"/>
                <a:tab algn="l" pos="5632560"/>
                <a:tab algn="l" pos="6089760"/>
                <a:tab algn="l" pos="6546960"/>
                <a:tab algn="l" pos="7004160"/>
                <a:tab algn="l" pos="7461360"/>
                <a:tab algn="l" pos="7918560"/>
                <a:tab algn="l" pos="8375760"/>
                <a:tab algn="l" pos="8832960"/>
                <a:tab algn="l" pos="92901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uld the average adult in the community find it pornographic?  Is it “tending to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corruption of morals?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490680"/>
                <a:tab algn="l" pos="603360"/>
                <a:tab algn="l" pos="1060560"/>
                <a:tab algn="l" pos="1517760"/>
                <a:tab algn="l" pos="1974960"/>
                <a:tab algn="l" pos="2432160"/>
                <a:tab algn="l" pos="2889360"/>
                <a:tab algn="l" pos="3346560"/>
                <a:tab algn="l" pos="3803760"/>
                <a:tab algn="l" pos="4260960"/>
                <a:tab algn="l" pos="4718160"/>
                <a:tab algn="l" pos="5175360"/>
                <a:tab algn="l" pos="5632560"/>
                <a:tab algn="l" pos="6089760"/>
                <a:tab algn="l" pos="6546960"/>
                <a:tab algn="l" pos="7004160"/>
                <a:tab algn="l" pos="7461360"/>
                <a:tab algn="l" pos="7918560"/>
                <a:tab algn="l" pos="8375760"/>
                <a:tab algn="l" pos="8832960"/>
                <a:tab algn="l" pos="92901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nd to be too va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490680"/>
                <a:tab algn="l" pos="603360"/>
                <a:tab algn="l" pos="1060560"/>
                <a:tab algn="l" pos="1517760"/>
                <a:tab algn="l" pos="1974960"/>
                <a:tab algn="l" pos="2432160"/>
                <a:tab algn="l" pos="2889360"/>
                <a:tab algn="l" pos="3346560"/>
                <a:tab algn="l" pos="3803760"/>
                <a:tab algn="l" pos="4260960"/>
                <a:tab algn="l" pos="4718160"/>
                <a:tab algn="l" pos="5175360"/>
                <a:tab algn="l" pos="5632560"/>
                <a:tab algn="l" pos="6089760"/>
                <a:tab algn="l" pos="6546960"/>
                <a:tab algn="l" pos="7004160"/>
                <a:tab algn="l" pos="7461360"/>
                <a:tab algn="l" pos="7918560"/>
                <a:tab algn="l" pos="8375760"/>
                <a:tab algn="l" pos="8832960"/>
                <a:tab algn="l" pos="92901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2111400" cy="28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New Tes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99072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8474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work as a whole appeal to the prurient interest? PRURIENT INTEREST - A morbid, degrading and unhealthy interest in sex, as distinguished from a mere candid interest in se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99072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8474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k depicts or describes sexual conduct in a patently offensiv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99072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8474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k as a whole lacks serious literary, artistic, political, or scientific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0">
              <a:spcBef>
                <a:spcPts val="601"/>
              </a:spcBef>
              <a:buNone/>
              <a:tabLst>
                <a:tab algn="l" pos="0"/>
                <a:tab algn="l" pos="99072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8474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3743280"/>
            <a:ext cx="2286000" cy="3114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467480" y="0"/>
            <a:ext cx="1371600" cy="190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76440" cy="1523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8600" y="1143000"/>
            <a:ext cx="609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****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391520" y="5410080"/>
            <a:ext cx="17524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11:24:15Z</dcterms:created>
  <dc:creator>ptaylor</dc:creator>
  <dc:description/>
  <dc:language>en-US</dc:language>
  <cp:lastModifiedBy>ptaylor</cp:lastModifiedBy>
  <dcterms:modified xsi:type="dcterms:W3CDTF">2007-03-14T15:35:05Z</dcterms:modified>
  <cp:revision>15</cp:revision>
  <dc:subject/>
  <dc:title>The Bill of Rights</dc:title>
</cp:coreProperties>
</file>